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CF9-D425-4522-8566-756FBD80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EF2-0B44-46D6-9B2C-AF6FE513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A1F-4CAD-4F87-8A78-788173D1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BA3-FB9E-48C4-8363-01FAB056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368-C7FA-42A1-A5E5-A70E8B8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46B-C08F-4140-8BB4-8361365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BCB-B521-49DB-8CC5-44C23560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0D6-9760-4724-B5A5-5197F66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6DB-A826-4980-AE6D-A6C340A3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060-FD7C-4D8B-8670-AA209191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D02-0AA5-49CA-8034-076378E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C4D-6309-42CC-A695-8D71E4F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18960" y="2438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6A0-5EBA-4478-A6A5-5DBACE2B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828800"/>
            <a:ext cx="586728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How Muc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Do I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Rememb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5720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Are you ready to play. .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orage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800" y="4000680"/>
            <a:ext cx="434340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gnetic Stor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ptical Stor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put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.  Stores data by magnetizing microscopic particles on the disk or tape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me bom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ach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e Vir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.  Attaches to an application program, such as a gam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00600" y="5181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181480"/>
            <a:ext cx="42670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.  A type of software that helps you perform a specific task such as word process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962520"/>
            <a:ext cx="4267080" cy="76176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ega computer</a:t>
            </a: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upercompu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038480"/>
            <a:ext cx="41911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entiu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.  The fastest and most expensive type of comput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.  Computer programs that help the computer carry out essential operating task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T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eraby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lo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ga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Gigaby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.  Approximately 1 billi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t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men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.  Point and click menu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96252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p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3962520"/>
            <a:ext cx="388620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h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 A microcomputer designed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use by an individu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m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. The sequence of events that occurs within a computer system when the user starts the comput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8. Tangible, physical equipment that can be touch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licon Chip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orage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tput 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A mechanical apparatus that records data to and retrieves data from a storage medi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. A large, fast, and expensive computer generally used by businesses or government agencies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loby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a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. Eight bits of inform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pheral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pu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ut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. Printers and monitors are types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d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ppy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ip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2. Optical storage is used to store data 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3. Computer’s memory that stores data and instructions but is lost when power is turned off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4. Computer’s memory that stores permanent instructions needed for computer opera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95680" y="5105520"/>
            <a:ext cx="46483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k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5. To keep your files organized, you creat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cro Vir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le Vir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ojan Hor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A virus designed to spread from computer to computer usually through e-ma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An interconnected group of computers that covers a large geographical are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Intangible set of instructions that tell the computer what to d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724280" y="5105520"/>
            <a:ext cx="4114800" cy="99036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eripheral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11480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A component or equipment that expands a computer’s capabili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8098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952880"/>
            <a:ext cx="4038480" cy="99072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8098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 The underlying hardware and software of the computer system (PC or Ma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.  An interconnected group of computers and peripherals located within a limited are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24280" y="510552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D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ircui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03848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105520"/>
            <a:ext cx="403848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038480"/>
            <a:ext cx="4038840" cy="685800"/>
          </a:xfrm>
          <a:prstGeom prst="rect">
            <a:avLst/>
          </a:prstGeom>
          <a:solidFill>
            <a:srgbClr val="000000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B: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.  Brains of the comput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7:55:29Z</dcterms:created>
  <dc:creator>User</dc:creator>
  <dc:description/>
  <dc:language>en-US</dc:language>
  <cp:lastModifiedBy>Brad Schmidt</cp:lastModifiedBy>
  <dcterms:modified xsi:type="dcterms:W3CDTF">2005-12-15T18:50:57Z</dcterms:modified>
  <cp:revision>30</cp:revision>
  <dc:subject/>
  <dc:title>PowerPoint Presentation</dc:title>
</cp:coreProperties>
</file>